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0BEA-4F7F-4BBC-9731-E843B6AD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178F-1B3E-421F-839E-55AA6B31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0876-1D4C-428A-90EC-0E723DCB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F1DB-F67D-4D3B-AA60-2A60D789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4E4C-37B1-4C96-8EFF-2E754D14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F3D2-7186-406A-AB00-F0BB6D9E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E484-ECCF-493F-A16C-86BFC0F1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F401-9947-4A3B-AD2C-E038F4D1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3F4D-5627-4BCE-900A-2F1C2762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9C8A-1F3B-4837-B2D4-399300FE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23B8-59A9-41FF-9E85-F52287A9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6DD1-88F7-447D-8BA1-A7AEBE62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BF79-94F4-4DA2-9C25-533BB40C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949B-A2CE-4911-A2A4-74CA331F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131A-F060-4F44-BA8B-B6BCF132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E663-BB43-45D7-A491-8040B095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16B5-CB15-4CAA-807C-AE500160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9813-7DD6-47A3-9A5B-ACC00DD3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DF350-A837-4ECF-A53B-C4DFA12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1A63-DB70-4B65-8654-83EAF695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3909-7DAA-4E65-8997-0DF9A5FA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2EA25-8867-4992-915B-8534A479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52AC-804B-4BC9-957C-3D811AAA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07F0-2273-4C79-9645-FAC4546D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FF85-E179-4653-BDB2-1A6CD5BF4F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3A6E-A499-47F8-BD88-BB206E138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o.wikipedia.org/wiki/Limba_japonez&#259;" TargetMode="External"/><Relationship Id="rId2" Type="http://schemas.openxmlformats.org/officeDocument/2006/relationships/hyperlink" Target="http://ro.wikipedia.org/wiki/Ritual" TargetMode="External"/><Relationship Id="rId3" Type="http://schemas.openxmlformats.org/officeDocument/2006/relationships/hyperlink" Target="http://ro.wikipedia.org/wiki/Budism" TargetMode="External"/><Relationship Id="rId4" Type="http://schemas.openxmlformats.org/officeDocument/2006/relationships/hyperlink" Target="http://ro.wikipedia.org/wiki/Zen" TargetMode="External"/><Relationship Id="rId5" Type="http://schemas.openxmlformats.org/officeDocument/2006/relationships/hyperlink" Target="http://ro.wikipedia.org/wiki/Ceai" TargetMode="External"/><Relationship Id="rId6" Type="http://schemas.openxmlformats.org/officeDocument/2006/relationships/hyperlink" Target="http://ro.wikipedia.org/wiki/Matcha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o.wikipedia.org/wiki/Medicament" TargetMode="External"/><Relationship Id="rId2" Type="http://schemas.openxmlformats.org/officeDocument/2006/relationships/hyperlink" Target="http://ro.wikipedia.org/wiki/Camelia_sinensis" TargetMode="External"/><Relationship Id="rId3" Type="http://schemas.openxmlformats.org/officeDocument/2006/relationships/hyperlink" Target="http://ro.wikipedia.org/wiki/Camelia_sinensis" TargetMode="External"/><Relationship Id="rId4" Type="http://schemas.openxmlformats.org/officeDocument/2006/relationships/hyperlink" Target="http://ro.wikipedia.org/wiki/Asia" TargetMode="External"/><Relationship Id="rId5" Type="http://schemas.openxmlformats.org/officeDocument/2006/relationships/hyperlink" Target="http://ro.wikipedia.org/wiki/China" TargetMode="External"/><Relationship Id="rId6" Type="http://schemas.openxmlformats.org/officeDocument/2006/relationships/hyperlink" Target="http://ro.wikipedia.org/wiki/Tang" TargetMode="External"/><Relationship Id="rId7" Type="http://schemas.openxmlformats.org/officeDocument/2006/relationships/hyperlink" Target="http://ro.wikipedia.org/wiki/616" TargetMode="External"/><Relationship Id="rId8" Type="http://schemas.openxmlformats.org/officeDocument/2006/relationships/hyperlink" Target="http://ro.wikipedia.org/wiki/907" TargetMode="External"/><Relationship Id="rId9" Type="http://schemas.openxmlformats.org/officeDocument/2006/relationships/hyperlink" Target="http://ro.wikipedia.org/wiki/Lu_Yu" TargetMode="External"/><Relationship Id="rId10" Type="http://schemas.openxmlformats.org/officeDocument/2006/relationships/hyperlink" Target="http://ro.wikipedia.org/wiki/Lu_Yu" TargetMode="External"/><Relationship Id="rId11" Type="http://schemas.openxmlformats.org/officeDocument/2006/relationships/hyperlink" Target="http://ro.wikipedia.org/wiki/Lu_Yu" TargetMode="External"/><Relationship Id="rId12" Type="http://schemas.openxmlformats.org/officeDocument/2006/relationships/hyperlink" Target="http://ro.wikipedia.org/wiki/733" TargetMode="External"/><Relationship Id="rId13" Type="http://schemas.openxmlformats.org/officeDocument/2006/relationships/hyperlink" Target="http://ro.wikipedia.org/wiki/804" TargetMode="External"/><Relationship Id="rId14" Type="http://schemas.openxmlformats.org/officeDocument/2006/relationships/hyperlink" Target="http://ro.wikipedia.org/wiki/Ghimbir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o.wikipedia.org/wiki/Art&#259;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JAPONIA, </a:t>
            </a:r>
            <a:r>
              <a:rPr b="0" lang="ro-RO" sz="4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RA SOARELUI R</a:t>
            </a:r>
            <a:r>
              <a:rPr b="0" lang="ro-RO" sz="4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AR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Tradiţia ceaiul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Poşchină Oa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Clasa a XI-a 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Esența ceremoniei ceaiulu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ența ceremoniei ceaiului este armonia. Fiecare mișcare și fiecare componentă a acestui ceremonial sunt studiate pentru a crea imaginea serenității absolute. Această tradiție a fost începută de călugării budiști acum 700 de ani. 200 de ani mai târziu, Sen no Rikyu a transformat simpla ceremonie concepută de călugări într-un adevărat rit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280" y="112536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Ceremonia ceaiulu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茶の湯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anoy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茶道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adō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sau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sadō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în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japoneză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) este un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itual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tradițional influențat de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dismul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Ze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prin care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ceaiul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verde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match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抹茶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) — sau „roua prețioasă lichidă” — este preparat într-o manieră ceremonioasă de către o persoană inițiată și servit unui grup mic de oaspeți într-o atmosferă liniștită. În esența sa, ceremonia ceaiului reprezintă expresia sintetică a aspectelor fundamentale ale culturii japonez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11640" y="3141720"/>
            <a:ext cx="4545000" cy="334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52228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-36720"/>
            <a:ext cx="80647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Isto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eaiul a fost înainte de toate un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medicamen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. Planta ceaiului (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amelia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sinensi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) se pare că este originară din munții din sudul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Asie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, de unde a fost adusă în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Chin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. În timpul dinastiei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Tang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616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907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) ceaiul era băut mai ales pentru gustul său și era așa de important încât a devenit subiectul unei cărți în trei volume numită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á jīng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, („Cartea sacră a ceaiului”), scrisă de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Lu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Y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733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804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), poet chinez. În acea perioadă frunzele de ceai se presau și se uscau în formă de calupuri solide. Pentru preparare se foloseau diverse arome, spre exemplu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ghimbir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și s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Introducere în ceremonia ceaiu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Numele de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anoy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este cunoscut ca având semnificația de „ceremonia japoneză a ceaiului”, deși tradus exact înseamnă, de fapt, „apă fierbinte pentru ceai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n cultura japoneză, orice formă de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rtă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este descrisă ca o „cale” spirituală. În acest sens întâlnim „calea florilor” (ikebana), „calea caligrafiei” (shodo), „calea poeziei” (haiku), „calea sabiei” (kendo) etc. Corespondentul pentru chanoyu este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ado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(„calea ceaiului”), aceasta reprezentând calea spirituală a ceremoniei ceaiulu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Decorațiunile care însoțesc această ceremonie sunt de obicei simple, dar elocvente: fie o chabana, fie o caligrafie semnificativă. Instrumentele de pregătire sunt aranjate în stil ceremonios de către gazdă, reflectând armonia valorilor ceaiului. Toți invitații folosesc aceeași ceșcuță, în fața căreia fac o plecăciune, o rotesc cu o gestică precisă și apoi o golesc prin înghițituri mici și rare. După terminarea lichidului, marginea ceștii este ștearsă cu degete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108000"/>
            <a:ext cx="7632720" cy="71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Tradiția cere ca invitații să adreseze gazdei complimente și întrebări, și să admire decorul, instrumentele și măiestria preparării. Cu timpul, această ceremonie a evoluat și a condus la apariția teismului, care în esență cere celui inițiat puterea de a pătrunde și a aprecia savoarea ceaiului, dar și a ceremonialului propriu-zis, și de a se bucura de lucrurile simpl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Ceremonia ceaiului este cunoscută cu următoarele denumiri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900" spc="-1" strike="noStrike">
                <a:solidFill>
                  <a:srgbClr val="000000"/>
                </a:solidFill>
                <a:latin typeface="Arial"/>
              </a:rPr>
              <a:t>Chanoyu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(metoda antică)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900" spc="-1" strike="noStrike">
                <a:solidFill>
                  <a:srgbClr val="000000"/>
                </a:solidFill>
                <a:latin typeface="Arial"/>
              </a:rPr>
              <a:t>Sencha-do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(metoda modernă)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900" spc="-1" strike="noStrike">
                <a:solidFill>
                  <a:srgbClr val="000000"/>
                </a:solidFill>
                <a:latin typeface="Arial"/>
              </a:rPr>
              <a:t>Misonodoma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(metoda pentru occidentali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900" spc="-1" strike="noStrike">
                <a:solidFill>
                  <a:srgbClr val="000000"/>
                </a:solidFill>
                <a:latin typeface="Arial"/>
              </a:rPr>
              <a:t>Ryakubon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(metoda pentru exterior).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79912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eremonia ceaiului a jucat un rol important în viața culturală și artistică a Japoniei timp de mai bine de 400 de ani. Această artă este mai mult decât o ceremonie a ceaiului, este un mod de disciplinare a sufletului omenesc. Esența ceremonialului este de natură spirituală și presupune o anumită stare sufletească din partea participanților. Cei ce se adună să ia parte la ceremonial trebuie să lase afară toate necazurile și grijile vieții cotidiene înainte de a intra în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ashits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pentru a petrece clipe de liniște într-o atmosferă calm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76944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2:57:48Z</dcterms:created>
  <dc:creator>elev</dc:creator>
  <dc:description/>
  <dc:language>en-US</dc:language>
  <cp:lastModifiedBy>elev</cp:lastModifiedBy>
  <dcterms:modified xsi:type="dcterms:W3CDTF">2011-04-07T13:09:33Z</dcterms:modified>
  <cp:revision>2</cp:revision>
  <dc:subject/>
  <dc:title>JAPONIA, ŢARA SOARELUI RĂSARE</dc:title>
</cp:coreProperties>
</file>